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BDC-8573-4927-8819-D2E5B4FA304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3B7-109E-420D-9FD0-ECBC76BF1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113-D86F-4AB3-8ADC-1CEEDC859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8AB9-9411-4A0C-A306-84E4791AA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C2D-3DAE-434B-AF8F-B1C99E98F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AFC-59C9-44B3-9371-00E733B32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58E8-42C7-40FD-927A-0C348F2E6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D108-F4F0-4335-8DD9-394043B3C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FAE2-6BD0-4E1B-AB24-7A7225B00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F8C-07A8-4407-8357-16CF7399C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9B3B-625D-456D-B33B-5C62A1B574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C8D3-2E0E-4331-93E5-F11D0B2C9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62F1-EF60-4A1E-85E6-369ECD64F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77D0-ACAB-45DE-9166-61C750C1A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FFA-535C-4A63-8E91-E03D6C2C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256-21B2-46F5-A446-349F4C08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729-997C-44F3-8C1F-EE61F1F3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80E-007D-4D5F-9457-044E1EF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0798-3DA0-4072-861F-C093EB97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08F9-B812-4FED-8D41-54DAB26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7323-7B73-4293-A452-01081BFD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944D-7921-45C5-AA23-BACBF53B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9F6-15E3-4DC3-8605-288BF193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69A0-03CB-4860-A91F-7EEAD577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79F2-8B72-4C99-A891-4CF47D9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8EF-0188-4B87-8F3A-850DCD7C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E4BA-18B3-446E-85C9-530E08C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31BA-ED42-4E21-A436-57A55D5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A7C8-8FEF-4EA3-8F82-89278BD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56D-EDC6-4F00-AA5D-A11AF886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158A-018C-4388-8621-65B738E3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A06-8FAD-41E4-BD5D-C8FD6AE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0DC-E9E5-4B8C-B611-6E848BB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DF4-6B0B-4092-B0A3-F869363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CAF-0551-4830-A711-2B77E66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30C-0CCD-4A3C-AB00-673EABF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320-0476-44D9-AFA0-86467D62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1CC-746E-42F2-A5E8-9FE106C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71B6-AD31-441D-8D18-D4698A1450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7CC0-66D5-459D-92A2-331A050831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en las políticas, las estrategias y los programas nacionales, sectoriales y subnacional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del cambio climático a nivel nacional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7000"/>
          </a:bodyPr>
          <a:p>
            <a:pPr marL="332640" indent="-3326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Herramientas para integrar el medio ambiente y el cambio climático en procesos estratégicos de planificación y polític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23F-DEF3-489A-8283-DAB53CCF4F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as herramientas que apoyan la sensibilización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7FE-B0A3-4B9A-A918-8B41D4CF71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24784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nsibilizació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24784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fluencia sobre las polític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valuaciones de vulnerabilidad y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Análisis macro y mesoeconóm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yectos de demostr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72572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... también son útiles para influir en las políticas e informar los procesos de planific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>
            <a:off x="6543360" y="4052880"/>
            <a:ext cx="1080" cy="327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valuaciones integradas de ecosistem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strategia de conocimiento, comunicación y defens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irectrices de EuropeAid para la integración del medio ambiente y el cambio climátic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5CD-4219-42B2-9365-E7F83944AF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1484280"/>
            <a:ext cx="4800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exo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Aspectos ambientales generales en áreas focales de la cooperació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exo 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Directrices para integrar aspectos ambientales y relacionados con el clima en los estudios de formulación de un PAP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exo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Directrices para la integración del medio ambiente y los aspectos relacionados con el clima en los estudios de formulació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1" descr="guidelines ES.jpg"/>
          <p:cNvPicPr/>
          <p:nvPr/>
        </p:nvPicPr>
        <p:blipFill>
          <a:blip r:embed="rId1"/>
          <a:stretch/>
        </p:blipFill>
        <p:spPr>
          <a:xfrm>
            <a:off x="108000" y="1125360"/>
            <a:ext cx="39592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-27000"/>
            <a:ext cx="8445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Directrices sectoriales específicas sobre el cambio climático de EuropeAid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2BF8-8D5A-4AC9-894B-AB8ECB7886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gricultura y desarrollo rur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estión de ecosistemas y de la biodiversida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uministro de energí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alu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fraestructur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estión de residuos sólidos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mercio e inversió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uministro de agua y saneamiento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697-B402-4CF6-BCF7-045E560772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valuación Ambiental Estratégica (EAE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Un proceso iterativo y participativ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álisis de las posibles consecuencias ambientales de las políticas/planes/programas propuestos, así como de las oportunidades, los riesgos y las limitaciones ambientales principales que deben tenerse en cuent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nsideración de los efectos previstos del cambio climát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l objeto de fomentar un desarrollo más sostenib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300640"/>
            <a:ext cx="6705360" cy="125244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segura que se tengan en cuenta las consideraciones ambientales de forma ANTICIPADA en el proceso de definición de políticas y planificación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foques con respecto a EA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ado en el borrador de la PPP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s.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la elaboración de la PPP de forma paralela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s.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totalmente integrad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7F64-4A4F-41BB-A68D-723D52BD59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6" name="Picture 1" descr="EAE1ES.jpg"/>
          <p:cNvPicPr/>
          <p:nvPr/>
        </p:nvPicPr>
        <p:blipFill>
          <a:blip r:embed="rId1"/>
          <a:stretch/>
        </p:blipFill>
        <p:spPr>
          <a:xfrm>
            <a:off x="108000" y="3270240"/>
            <a:ext cx="4356000" cy="289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EAE2ES.png"/>
          <p:cNvPicPr/>
          <p:nvPr/>
        </p:nvPicPr>
        <p:blipFill>
          <a:blip r:embed="rId2"/>
          <a:stretch/>
        </p:blipFill>
        <p:spPr>
          <a:xfrm>
            <a:off x="4697280" y="3213000"/>
            <a:ext cx="4446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Directrices para EA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350-97DD-4B5E-BF58-DC4496D660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jemplos de EA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85A9-FC9B-4452-A9EB-067D7EF61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AE de la política agrícola de Ruand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AE de la reforma del sector azucarero de Zamb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AE de la reforma del sector minero de Sierra Leo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jemplo: apoyar el desarrollo de un sistema de EAE nacional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 Chile, la UE apoyó el desarrollo del sistema de EAE na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ecer un departamento de EAE en el seno de la autoridad medioambient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sarrollo de un marco reglamentario y asesoramien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AE pilotos para desarrollar capacidades y poner a prueba el sistem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amizado de riesgos climátic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413000"/>
            <a:ext cx="815328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 los riesgos potenciales para un programa o proyecto mediante la evaluación, en su contexto específic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ara apoyar este ejercicio puede desarrollarse un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cuestionario de tamizad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estánda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DE5-6C1F-4C34-BDAF-B179E2CB14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826920" y="2819520"/>
            <a:ext cx="2830680" cy="753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xposición a los efectos del 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826920" y="3683160"/>
            <a:ext cx="28083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ensibilidad ante dichos efect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826920" y="4437000"/>
            <a:ext cx="280836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espuesta y capacidad de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732040" cy="753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iesgo de adaptación erróne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732040" cy="15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Impactos sobre el clima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(emisiones de GEI /eliminaciones de emisione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¿Por qué integrar el medio ambiente y el cambio climático a nivel nacional, sectorial y subnacion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65B-AAA0-46EC-827B-9EF1D1E338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amizado de riesgos climátic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ferentes herramientas disponibles, p.ej.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Banco Mundi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Programa del Reino Unido sobre los efectos del cambio climátic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atriz de tamizado de cambio climático de Danid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éase, p.ej.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B133-E6FA-4BA0-8F33-A21DA3BA86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sultados del tamizado de riesgos climátic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F79-EEA7-4FF6-AC81-F3915E4286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alibri"/>
              </a:rPr>
              <a:t>Emisiones de GEI o eliminación de emision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Significativa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41360"/>
            <a:ext cx="3940200" cy="40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in acción específica o con medidas limitad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9402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ás investigación, medidas de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9402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ás investigación, nuevo diseño para una menor vulnerabilidad/mayor capacidad de adaptación, o incluso abando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0280"/>
            <a:ext cx="3940200" cy="43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Sin acción específic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76640"/>
            <a:ext cx="3960720" cy="8002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ás investigación, nuevo diseño para un menor riesgo de adaptación errónea, o incluso abando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57720"/>
            <a:ext cx="3940200" cy="45576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2673"/>
                </a:solidFill>
                <a:latin typeface="Calibri"/>
              </a:rPr>
              <a:t>Sin acción específica o con medidas limitad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9402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ayor investigación y mejora del potencial de mitig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alibri"/>
              </a:rPr>
              <a:t>Vulnerabilidad a los efectos del cambio climático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alibri"/>
              </a:rPr>
              <a:t>Riesgo de mala adaptació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5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inguna o baj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8900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dia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l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Sí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2673"/>
                </a:solidFill>
                <a:latin typeface="Calibri"/>
              </a:rPr>
              <a:t>Insignificant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62673"/>
                </a:solidFill>
                <a:latin typeface="Calibri"/>
              </a:rPr>
              <a:t>(*) De forma proporcional al tamaño/alcance de la intervenció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324000" y="1413000"/>
            <a:ext cx="302400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La evaluación, ¿está relacionada con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324000" y="2151000"/>
            <a:ext cx="302400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una política, estrategia, programa o proyecto específico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valuación de vulnerabilidad y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26036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í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324000" y="3591000"/>
            <a:ext cx="302400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una política, plan, programa o estrategia específica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í </a:t>
            </a: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26036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324000" y="5029200"/>
            <a:ext cx="302400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un proyecto específico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í </a:t>
            </a: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valuación Ambiental Estratégica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7f7f7f"/>
                </a:solidFill>
                <a:latin typeface="Calibri"/>
              </a:rPr>
              <a:t>Evaluación de Impacto Ambiental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219640" y="602136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(*) Con TdR adaptados paraincluir consideraciones relativas al clim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 flipV="1">
            <a:off x="3347640" y="245664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>
            <a:off x="1835280" y="2763360"/>
            <a:ext cx="216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 flipH="1">
            <a:off x="1834920" y="3392280"/>
            <a:ext cx="216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  <a:endCxn id="284" idx="0"/>
          </p:cNvCxnSpPr>
          <p:nvPr/>
        </p:nvCxnSpPr>
        <p:spPr>
          <a:xfrm>
            <a:off x="1835280" y="4201920"/>
            <a:ext cx="216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 flipH="1">
            <a:off x="1834920" y="4831920"/>
            <a:ext cx="216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17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c8c93"/>
                </a:solidFill>
                <a:latin typeface="Calibri"/>
              </a:rPr>
              <a:t>(†) El tamizado de riesgo climático puede aplicarse antes de realizar una evaluación más detallada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D37-B73E-4784-8277-3C76D8A8D8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valuación Integrada de Ecosistem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ción del medio ambiente y del cambio climático en las políticas, las estrategias y los programas nacionales y sectori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AC44-B7C0-4C5D-90B8-995F322E4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7b"/>
                </a:solidFill>
                <a:latin typeface="Verdana"/>
              </a:rPr>
              <a:t>¿Qué puede hacerse y cuáles son las necesidades institucionales y de capacidades en su país/sector de responsabilidad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555920"/>
            <a:ext cx="856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La integración del medio ambiente y del cambio climático a niveles estratégicos de planificación sustenta unas respuestas más integradas, eficaces, eficientes y sosteni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os enfoques ascendentes y descendentes son complementarios y la integración también está justificada a nivel loca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e dispone de muchas herramientas y enfoques para apoyar la integración del medio ambiente y del cambio climático en políticas, estrategias, programas y proyect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anto las evaluaciones como los estudios ad-hoc, así como la integración de las consideraciones ambientales y climáticas en los estudios de viabilidad/formulación apoyan este proceso de integració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FF3A-1EB5-4D52-A615-24BB9066DB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Serie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ctor script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Comisión Europea, Brusela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misión Europea (2009b) Directrices para la integración del medio ambiente y el cambio climático en la cooperación al desarrollo. Comisión Europea, Brusela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CDE DCD (2006) Applying Strategic Environmental Assessment, good practice guidance for development co-operation. OCDE: Parí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187A-5C0C-43EB-AFDB-0D9CA17FD9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, S and Hulme, M (2004) Does climate adaptation policy need probabilities? Climate Policy, vol. 4 (2) 107-128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resentación de powerpoint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CDE (2009a) Integración de la Adaptación en la Cooperación para el Desarrollo: Guía sobre políticas. Ediciones OCDE, París. [Sólo lectura, edición navegable]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CDE DCD (2010) Strategic Environmental Assessment and Adaptation to Climate Change. OCDE: Parí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Un informe de evaluación. Environment &amp; Energy Group, United Nations Development Programme, New York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9A2-2E28-48B2-AD9F-E6BF509005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¿Por qué integrar a niveles de planificación estratégica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ivel naciona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40000"/>
            <a:ext cx="179208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Estado del medio ambient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79208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tuación socioeconómic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 flipH="1">
            <a:off x="6915960" y="3171600"/>
            <a:ext cx="1080" cy="268668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755800"/>
            <a:ext cx="932760" cy="29556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511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Coordinación del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signación de recursos en los sector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ás: Respuestas integradas -efectivas-eficientes-sostenib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04F-C9E3-4F74-99FF-8B389444BB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34928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mbio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limático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80360" y="327672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acto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iofís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6948360" y="5029200"/>
            <a:ext cx="23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actos socioeconóm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H="1" flipV="1">
            <a:off x="8213400" y="3860640"/>
            <a:ext cx="4680" cy="254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218440" y="4761000"/>
            <a:ext cx="25560" cy="323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751880" y="2814480"/>
            <a:ext cx="521640" cy="4024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/>
          <p:nvPr/>
        </p:nvCxnSpPr>
        <p:spPr>
          <a:xfrm rot="5400000">
            <a:off x="7821360" y="5653080"/>
            <a:ext cx="660600" cy="53424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¿Por qué integrar a niveles de planificación estratégica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4360" y="227664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rco global de políticas orientador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27664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Aplicación e implementación de las políticas nacional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ivel naciona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70380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ivel sectoria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4360" y="357336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Desempeño de algunas funciones clav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Iniciativas propias, desarrollo de capacidades y buenas práctic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Legislación/reglamentación específica del sector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4360" y="2924280"/>
            <a:ext cx="3958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Legislación/reglamentación nacional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4360" y="4292640"/>
            <a:ext cx="3958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Gestión de relaciones internacional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00720" y="4508640"/>
            <a:ext cx="4419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Cooperación transfronteriza en cuestiones medioambientales y climátic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627280" y="53737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Amplio abanico de recurso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95280" y="6093000"/>
            <a:ext cx="799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yores capacidades y fortalecimiento institucional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340000" y="5732640"/>
            <a:ext cx="460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yor apropiación de las respuest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BB6D-22B3-4798-A370-8871FF9E97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OCDE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¿Por qué se debe producir una integración a niveles inferiores de gobernanza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207036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iveles locales y subnaciona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197000"/>
            <a:ext cx="2210040" cy="24480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Mejores niveles para observar/entender los impactos sobre el desarrollo, el medio ambiente y el 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268280"/>
            <a:ext cx="2133720" cy="180036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La vulnerabilidad y la capacidad de adaptación son específicas de cada context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La mayoría de opciones para responder al deterioro medioambiental y adaptarse al cambio climático exigem una implementación loc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otencial para dirigir/liderar iniciativ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51C9-7E0E-47DB-9D51-3DF0DD3C7E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OCDE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Actores claves e interacciones a distintos nive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025-F861-4C51-8902-8CB5E25DC5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90360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nfoques para responder al deterioro medioambiental y adaptarse al cambio climátic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413000"/>
            <a:ext cx="2895480" cy="1152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Nivel nacional, incl. los sector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304020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Niveles subnacionales (local e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17080" y="3450960"/>
            <a:ext cx="20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Descendient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Ascendent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539640" y="2590920"/>
            <a:ext cx="193680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Basados en el modelo y el escenari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Centrados en los impactos físicos y en la 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vulnerabilidad biofísica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211140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Enfoque de los acto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Centrados en las condiciones ambientales y socioeconómicas predominantes y en la 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vulnerabilidad social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olíticas y estrategias nacion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Respuesta comunitaria, proyectos pilot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896-E62F-43EB-A80F-78D571360A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daptación al 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ción libre de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espuesta al deterioro ambient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incipales puntos de partida para la integración e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ocesos estratégicos de políticas y planific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EBF8-E3EA-4A63-BE26-0EBE892098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896472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rincipales puntos de partida en los ciclos de políticas nacionales y sectoria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57200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 de ciclo polític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vel nacion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vel sectori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ulación de polític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ón nacional a largo plaz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 y estrategias nacion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 y estrategias sectori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ific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 de desarrollo plurianu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s sectori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ignación de recurs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upuesto nacion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(s) relativos al medio ambiente y al clim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aciones presupuestarias sectori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sos de fondo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ación e implement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s y presupuestos de desarrollo a nivel sectori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ación sectori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Olhoff &amp; Schaer (2010) Fig. 1, p.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50920" y="189000"/>
            <a:ext cx="2057400" cy="152388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Reconocer las relaciones medio ambiente-desarrollo y los riesgos climátic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95280" y="545148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ir programas/proyectos ambientales y climáticos (sectoriales e intersectoriale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556000" y="1197000"/>
            <a:ext cx="243828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Asignar financiación para la acciones medioambientales y climátic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114300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Trasladar la financiación a los sectores/las regiones que sean vulnerables o prioritari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orporar actividades relativas al medio ambiente y al clim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164360" y="1600200"/>
            <a:ext cx="1979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ir consideraciones ambientales y climáticas en los criterios de selección de proyect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CDA-7A52-49A4-AD5F-D018EEADCC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5-19T19:31:11Z</dcterms:modified>
  <cp:revision>136</cp:revision>
  <dc:subject/>
  <dc:title>Slide 1</dc:title>
</cp:coreProperties>
</file>